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35600" cy="986940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9400"/>
              <a:gd name="textAreaBottom" fmla="*/ 9869040 h 9869400"/>
            </a:gdLst>
            <a:ahLst/>
            <a:rect l="textAreaLeft" t="textAreaTop" r="textAreaRight" b="textAreaBottom"/>
            <a:pathLst>
              <a:path w="21600" h="31649">
                <a:moveTo>
                  <a:pt x="5" y="0"/>
                </a:moveTo>
                <a:arcTo wR="5" hR="5" stAng="16200000" swAng="-5400000"/>
                <a:lnTo>
                  <a:pt x="0" y="31644"/>
                </a:lnTo>
                <a:arcTo wR="5" hR="5" stAng="10800000" swAng="-5400000"/>
                <a:lnTo>
                  <a:pt x="21595" y="316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280" rIns="892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37404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14560" y="937368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06539312-5281-4A7D-AEAA-9608932CACC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75BC35F9-13FA-4A88-B6B4-C66A268EBBF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4E0E08C2-17F6-4CD2-83B2-AFB115D48D0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99AC90A5-50C6-48C7-872A-9C8393092C3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9F9A23C6-9D7B-48EE-9A2D-7FAD5D2EF23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E546EF05-1902-4A2C-B1ED-4FBC4143CF0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A5F4F8E0-BF46-46D9-BBCA-635268B3FB5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4D902-9A8B-4049-93DA-07AA7E05A7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D6824-0315-42DF-9EA4-0DF55832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F45B4-C870-478C-A8D8-F0249CAD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3252F-61DE-4BB8-AC68-22CB8D7A30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B9927-493D-4713-B15C-99E82727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76FF2-32FE-415A-95B1-EE56CEBB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096E8-1D0F-487E-B30C-DA138D57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17E95-CE24-4F3B-AD22-FC4BCAF2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DC53F-C3E5-4BCD-A92C-3A9B0D57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1D2B2-EEFF-432E-83DC-D35AA43D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5DF64-C240-4240-9F3F-C0186C1B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62DE6-4215-4EBC-8DA8-08CF23C1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9.08.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247A39-1E9B-489D-A2E4-615DF7536D80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623880" y="124452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лан мероприятий по реализации проекта «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S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ударственном бюджетном учреждении здравоохран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БУЗ Кузнецкая межрайонная больница» поликлиника №4 на 1 квартал 2019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76120" y="2093760"/>
          <a:ext cx="8528040" cy="3800520"/>
        </p:xfrm>
        <a:graphic>
          <a:graphicData uri="http://schemas.openxmlformats.org/drawingml/2006/table">
            <a:tbl>
              <a:tblPr/>
              <a:tblGrid>
                <a:gridCol w="293760"/>
                <a:gridCol w="2244600"/>
                <a:gridCol w="489240"/>
                <a:gridCol w="377640"/>
                <a:gridCol w="392040"/>
                <a:gridCol w="384480"/>
                <a:gridCol w="434880"/>
                <a:gridCol w="35568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  <a:gridCol w="355680"/>
                <a:gridCol w="355320"/>
              </a:tblGrid>
              <a:tr h="63180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.01.19-29.03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.01.19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01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ть в поликлинике №4 государственном бюджетном учреждении здравоохранения  Кузнецкая межрайонная больница рабочую группу по реализации пилотного проекта «Бережливая поликлиника» на территории поликлиники№4 (далее – рабочая группа), определить лидеров проектов по направления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ать и представить на обсуждение рабочей группы макет планировки процедурного кабинета поликлиники №4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уществить сбор информации о ключевых проблемах в организации работы поликлиники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онометраж временных затрат пациента при обращении в процедурный кабинет.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2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онометраж временных затрат пациента при обращении в процедурный кабинет для забора крови.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461"/>
          <p:cNvSpPr/>
          <p:nvPr/>
        </p:nvSpPr>
        <p:spPr>
          <a:xfrm>
            <a:off x="569880" y="165240"/>
            <a:ext cx="342900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62"/>
          <p:cNvSpPr/>
          <p:nvPr/>
        </p:nvSpPr>
        <p:spPr>
          <a:xfrm>
            <a:off x="5519880" y="176040"/>
            <a:ext cx="312408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6880" y="544680"/>
          <a:ext cx="8433000" cy="3376440"/>
        </p:xfrm>
        <a:graphic>
          <a:graphicData uri="http://schemas.openxmlformats.org/drawingml/2006/table">
            <a:tbl>
              <a:tblPr/>
              <a:tblGrid>
                <a:gridCol w="411480"/>
                <a:gridCol w="2100240"/>
                <a:gridCol w="482400"/>
                <a:gridCol w="372960"/>
                <a:gridCol w="387360"/>
                <a:gridCol w="381240"/>
                <a:gridCol w="425520"/>
                <a:gridCol w="357120"/>
                <a:gridCol w="350640"/>
                <a:gridCol w="352440"/>
                <a:gridCol w="351000"/>
                <a:gridCol w="352440"/>
                <a:gridCol w="350640"/>
                <a:gridCol w="352440"/>
                <a:gridCol w="352440"/>
                <a:gridCol w="351000"/>
                <a:gridCol w="352440"/>
                <a:gridCol w="349200"/>
              </a:tblGrid>
              <a:tr h="41904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4.02.-06.02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4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5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3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анкетирования сотрудников поликлиники для выявления ключевых проблем организации рабочего процесс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анкетирования  об удовлетворенности пациентов поликлиники оказанной медицинской помощь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уровня вовлеченности сотрудников поликлиники до запуска проект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Тактического плана реализаци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26880" y="544680"/>
          <a:ext cx="8285400" cy="249696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1904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6.02-07.02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6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7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из и обсуждение полученных результатов на совещаниях  рабочей групп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совещаний  рабочей группы по выполнению поставленных зада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ление ориентировочной сметы расходов на реализацию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6880" y="544680"/>
          <a:ext cx="8285400" cy="320328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633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8.02.-12.02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 работы процедурного кабинета в новых условиях 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перепланировка регистратуры поликлиники № 4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новая организация пространст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деление  дополнительного  пространства (площадей) для ожидания пациентов, обеспечение посадочными  места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обретение  медицинской мебели в процедурный кабинет (манипуляционные столики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26880" y="544680"/>
          <a:ext cx="8285400" cy="204120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633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2.-20.02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еспечение информационного  сопровождения(единый образец стенда расположения кабинетов, новый образец расписания по профилям медицинской помощи, единый образец стенда с нормативно-правовыми документами, стенд по независимой оценке качест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6880" y="544680"/>
          <a:ext cx="8285400" cy="239688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50640"/>
                <a:gridCol w="3952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5317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.03.-29.03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 г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.03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ы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чет по реализации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ставление результатов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8" name="Text Box 185"/>
          <p:cNvSpPr/>
          <p:nvPr/>
        </p:nvSpPr>
        <p:spPr>
          <a:xfrm>
            <a:off x="581040" y="5900760"/>
            <a:ext cx="80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роектного офиса           зав.  поликлиникой № 4                          Бондаренко С.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09:01:08Z</dcterms:created>
  <dc:creator>Румянцева Луиза Марсовна</dc:creator>
  <dc:description/>
  <dc:language>en-US</dc:language>
  <cp:lastModifiedBy>pol4-stm</cp:lastModifiedBy>
  <cp:lastPrinted>2018-01-18T10:20:20Z</cp:lastPrinted>
  <dcterms:modified xsi:type="dcterms:W3CDTF">2019-02-04T12:15:47Z</dcterms:modified>
  <cp:revision>344</cp:revision>
  <dc:subject/>
  <dc:title>Слайд 1</dc:title>
</cp:coreProperties>
</file>